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25E7-FA71-4B5A-AA2E-C4F09798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DEC0-214C-4B97-9774-F4AA94C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6D35-3C4A-4A4B-B514-8A8BEE37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AF1A-501D-40F8-84A9-1A4E3EF6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4F9C-D252-46EC-A1F4-443078EB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922A-D4E7-4012-A81C-5B9F2A8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EA6-55D5-49C2-B722-ED6ABEF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2025-884A-40F9-845B-91BBCC1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B6F4-E7A2-44AC-89F9-AC3D626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CA9-E20B-46F6-8A90-E1F82B6B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2AD-2CAB-4484-AD5A-32D6DD0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F9C7-4B19-4B93-BFF4-4013FA9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701-2BF2-43A7-8249-AFD7522B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49F6-57DF-4F6B-A415-8E0BC05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0D2-5E17-4516-A262-C1B78E2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4B3-7DD2-4AF1-9F4E-EA23F423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113B-4EF1-4F6F-AF04-736BA691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60CF-3DF4-4039-A1C5-F3BBA84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75C4-3F8A-498A-A18C-27A5576E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6A1F-7D1E-40AC-A8BD-FB9DF29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562D-DAC1-4AF4-9919-15228679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6EFA-5E4A-480D-A457-EABFF9B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35F2-CEED-4D73-9489-32D174B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AAE4-8AB2-4BE1-9331-696BB35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600-976F-49A7-A594-212F59FC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5D67-C8A5-4586-8612-D7028764A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39e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8ccb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add title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Arial"/>
              </a:rPr>
              <a:t>Click to add subtitle</a:t>
            </a: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82880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495d61"/>
              </a:gs>
              <a:gs pos="50000">
                <a:srgbClr val="9fcad3"/>
              </a:gs>
              <a:gs pos="100000">
                <a:srgbClr val="495d6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66688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3c4868"/>
              </a:gs>
              <a:gs pos="50000">
                <a:srgbClr val="839ee3"/>
              </a:gs>
              <a:gs pos="100000">
                <a:srgbClr val="3c48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505320"/>
            <a:ext cx="5410080" cy="53316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2f5e54"/>
              </a:gs>
              <a:gs pos="50000">
                <a:srgbClr val="68ccb7"/>
              </a:gs>
              <a:gs pos="100000">
                <a:srgbClr val="2f5e54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34340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706038"/>
              </a:gs>
              <a:gs pos="50000">
                <a:srgbClr val="f4d17a"/>
              </a:gs>
              <a:gs pos="100000">
                <a:srgbClr val="70603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f2f2f2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040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fcad3"/>
              </a:gs>
              <a:gs pos="100000">
                <a:srgbClr val="313f4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e385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8ccb7"/>
              </a:gs>
              <a:gs pos="100000">
                <a:srgbClr val="2f5e5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3472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800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6060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9ee3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c4868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4868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18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9400" y="29718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9718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540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2040" y="1477800"/>
            <a:ext cx="6437160" cy="1387800"/>
            <a:chOff x="1112040" y="1477800"/>
            <a:chExt cx="6437160" cy="1387800"/>
          </a:xfrm>
        </p:grpSpPr>
        <p:sp>
          <p:nvSpPr>
            <p:cNvPr id="136" name=""/>
            <p:cNvSpPr/>
            <p:nvPr/>
          </p:nvSpPr>
          <p:spPr>
            <a:xfrm rot="3418800">
              <a:off x="1322640" y="1702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360" y="1874520"/>
              <a:ext cx="931680" cy="131760"/>
              <a:chOff x="2286360" y="1874520"/>
              <a:chExt cx="931680" cy="1317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36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7564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7692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5288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3418800">
              <a:off x="304380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007880" y="1874520"/>
              <a:ext cx="931680" cy="131760"/>
              <a:chOff x="4007880" y="1874520"/>
              <a:chExt cx="931680" cy="131760"/>
            </a:xfrm>
          </p:grpSpPr>
          <p:sp>
            <p:nvSpPr>
              <p:cNvPr id="144" name=""/>
              <p:cNvSpPr/>
              <p:nvPr/>
            </p:nvSpPr>
            <p:spPr>
              <a:xfrm>
                <a:off x="400788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9716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9844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7440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418800">
              <a:off x="469332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29040" y="1874520"/>
              <a:ext cx="1218240" cy="131760"/>
              <a:chOff x="5729040" y="1874520"/>
              <a:chExt cx="1218240" cy="131760"/>
            </a:xfrm>
          </p:grpSpPr>
          <p:sp>
            <p:nvSpPr>
              <p:cNvPr id="150" name=""/>
              <p:cNvSpPr/>
              <p:nvPr/>
            </p:nvSpPr>
            <p:spPr>
              <a:xfrm>
                <a:off x="5729040" y="18745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45680" y="1875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62600" y="18766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61960" y="19177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3418800">
              <a:off x="641448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4252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9500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9520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804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900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148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396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680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54080" y="1328760"/>
          <a:ext cx="7196040" cy="4098960"/>
        </p:xfrm>
        <a:graphic>
          <a:graphicData uri="http://schemas.openxmlformats.org/drawingml/2006/table">
            <a:tbl>
              <a:tblPr/>
              <a:tblGrid>
                <a:gridCol w="1438200"/>
                <a:gridCol w="1150920"/>
                <a:gridCol w="1150920"/>
                <a:gridCol w="1150920"/>
                <a:gridCol w="1154160"/>
                <a:gridCol w="11509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7720" y="41450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1461960" y="203148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601600">
            <a:off x="151740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382400" y="188748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1434960" y="18554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0602200">
            <a:off x="1438200" y="186912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1440000" y="18676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rot="20602200">
            <a:off x="1423800" y="187452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1600">
            <a:off x="4506480" y="319104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4400280" y="293796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9200" y="1189080"/>
            <a:ext cx="6918840" cy="4357080"/>
            <a:chOff x="529200" y="1189080"/>
            <a:chExt cx="6918840" cy="4357080"/>
          </a:xfrm>
        </p:grpSpPr>
        <p:sp>
          <p:nvSpPr>
            <p:cNvPr id="177" name=""/>
            <p:cNvSpPr/>
            <p:nvPr/>
          </p:nvSpPr>
          <p:spPr>
            <a:xfrm rot="20712600">
              <a:off x="781920" y="1960920"/>
              <a:ext cx="641340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712600">
              <a:off x="4186440" y="3158640"/>
              <a:ext cx="137772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712600">
              <a:off x="5562720" y="3327480"/>
              <a:ext cx="1579320" cy="9788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03680" y="891720"/>
            <a:ext cx="6957360" cy="4863240"/>
            <a:chOff x="1003680" y="891720"/>
            <a:chExt cx="6957360" cy="4863240"/>
          </a:xfrm>
        </p:grpSpPr>
        <p:sp>
          <p:nvSpPr>
            <p:cNvPr id="181" name=""/>
            <p:cNvSpPr/>
            <p:nvPr/>
          </p:nvSpPr>
          <p:spPr>
            <a:xfrm rot="20601600">
              <a:off x="6073560" y="32299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39200">
              <a:off x="1323720" y="177768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601600">
              <a:off x="4757760" y="306072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rot="20601600">
            <a:off x="2979720" y="2584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01600">
            <a:off x="3056040" y="281916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080" y="2405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5880" y="1947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7080" y="270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8480" y="4005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0960" y="4233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2400" y="3395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966960" y="3797280"/>
            <a:ext cx="1512720" cy="1511280"/>
            <a:chOff x="966960" y="3797280"/>
            <a:chExt cx="1512720" cy="1511280"/>
          </a:xfrm>
        </p:grpSpPr>
        <p:sp>
          <p:nvSpPr>
            <p:cNvPr id="193" name="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7b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f4c6d"/>
                </a:gs>
                <a:gs pos="100000">
                  <a:srgbClr val="839e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1840" y="39618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c4868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2280" y="20858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cece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14840" y="3809880"/>
            <a:ext cx="1513080" cy="1511280"/>
            <a:chOff x="4614840" y="3809880"/>
            <a:chExt cx="1513080" cy="1511280"/>
          </a:xfrm>
        </p:grpSpPr>
        <p:sp>
          <p:nvSpPr>
            <p:cNvPr id="201" name="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ca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c7df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56c71"/>
                </a:gs>
                <a:gs pos="50000">
                  <a:srgbClr val="9fcad3"/>
                </a:gs>
                <a:gs pos="100000">
                  <a:srgbClr val="556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d6166"/>
                </a:gs>
                <a:gs pos="100000">
                  <a:srgbClr val="9fca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9720" y="39744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95d61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88280" y="3809880"/>
            <a:ext cx="1512720" cy="1511280"/>
            <a:chOff x="6488280" y="3809880"/>
            <a:chExt cx="1512720" cy="1511280"/>
          </a:xfrm>
        </p:grpSpPr>
        <p:sp>
          <p:nvSpPr>
            <p:cNvPr id="207" name="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4d17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100000">
                  <a:srgbClr val="f6df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837041"/>
                </a:gs>
                <a:gs pos="50000">
                  <a:srgbClr val="f4d17a"/>
                </a:gs>
                <a:gs pos="100000">
                  <a:srgbClr val="8370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6653b"/>
                </a:gs>
                <a:gs pos="100000">
                  <a:srgbClr val="f4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3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706038"/>
                </a:gs>
                <a:gs pos="100000">
                  <a:srgbClr val="f4d1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6280" y="3809880"/>
            <a:ext cx="1512720" cy="1511280"/>
            <a:chOff x="2816280" y="3809880"/>
            <a:chExt cx="1512720" cy="1511280"/>
          </a:xfrm>
        </p:grpSpPr>
        <p:sp>
          <p:nvSpPr>
            <p:cNvPr id="213" name="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5d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26258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1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f5e54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033640" y="1447920"/>
            <a:ext cx="4876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489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65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777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164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07:00Z</dcterms:created>
  <dc:creator>Bonnie Ritchey</dc:creator>
  <dc:description/>
  <dc:language>en-US</dc:language>
  <cp:lastModifiedBy>Bonnie Ritchey</cp:lastModifiedBy>
  <dcterms:modified xsi:type="dcterms:W3CDTF">2004-10-24T17:08:16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